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0712-BA04-4A95-991E-C24576EA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94AA-E7AF-42B1-BCCF-70698832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579-3B62-4C47-A78A-2E50ECD1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57B2-8414-4EBD-9B24-CB23E69E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540B-6D8D-4257-8961-9CE34757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722E-9AA3-4508-96FD-59C165EF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4D2B-7319-4B03-BD57-A8D3D76E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3D17-6661-4B73-AD63-A3B0B106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470D-C938-4AAB-B33F-3F172DFE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6958-9431-4BEA-B98D-B282AF06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58C6-D2A3-4BF2-884F-71B9023D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06F-8BE3-4232-950F-1359993C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1713-C8C6-4E53-AECD-7049048E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E610-82E6-4F6C-9CF5-A6E84425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304B-06A1-4670-B9C7-2E6BA96C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0877-2EC9-4F33-9ADD-E6037B49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2D29-A45A-45EA-9416-21282244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8978D-A144-4B28-847F-7F420C76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86B53-EEA7-49F6-82D6-7C3316E4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91EB0-E1C0-4112-87C8-B10EFF82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CB3D1-6C66-4115-A8EC-56F89318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8D6DA-8C65-4ADA-9016-5C2F41F6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0E77-BF21-447E-8E33-74146EBA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3C43E-40B5-47AE-BA7D-8823D5AC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4E4AD-F38F-4E37-96AB-6D924692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C3728-436E-4AC0-9E14-85FFC775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9A334-FEBB-44BB-B6D0-D847DA8E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9859B-C349-465B-A0DE-ABE3701E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04DFA-16EA-4235-B094-0201A910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F097A-532A-4D4B-BCB8-0B54DB4A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4EF1E-A237-4A6D-899C-2B93EAAB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A30C8-D2B0-407E-B85F-6762F247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37FEA-7194-45C9-954D-4C191390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8CD-224C-471E-9108-12363885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5AAA8-4B63-4888-A769-C264D6F8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D4736-4E5D-4011-A46E-7984BDD5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273E5-F8C6-484E-B7A2-3F2D1BD1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0A990-24C8-4552-813A-DB6C282E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608A7-2180-49BB-A6BB-98CE2E1C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32CEA-983A-4BC5-92C1-57F13F16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79244-12C4-469F-BA4A-CF821A06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2A4BD-C372-4014-A562-80B59AD7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B0674-5790-492E-A029-915A9D06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85B36-BE07-4323-B1E8-BE0513B0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915-F1B9-4358-9CC3-7563ECA3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0705D-7EDF-4DEA-99F0-E8DE09CD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CAB8B-64AF-42AB-B661-87ABF595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9F063-3A87-49E8-BF45-61050E09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41A22-7F22-470E-BB68-F5FFFF18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9B70C-CA65-4543-99AC-6946CC40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34549-1904-44EF-A598-4715ED00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E6F34-FBA1-4C27-8F55-0421DCF8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A76FB-31E5-4122-B9B7-E2D75610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E741A-34F9-478E-94B9-50966A80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9A73D-488A-4892-AF3F-7382476B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6C21-4544-4985-AF81-666D8D4E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D87DE-1A94-4841-87E9-ABBFC6DC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7CE6B-5941-4814-AD44-F6229C54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40799-D91F-4D22-9722-AFB8CC85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208F2-4951-4FCC-A9B5-234E878B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72C84-3D09-4D85-968A-9F21AC57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A16C9-7609-4863-AA69-FFB4E887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31BAF-D786-42DB-AA1A-1EA536F3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5AE2F-8BBD-4129-BECF-09C2F51D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AD0F8-ECBC-423D-A6F8-20F27FAA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8C073-63C3-4FB2-AA5D-4A3D348F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9739-4151-496A-8436-A281625A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7883E-DD47-457C-827B-99D78A68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F1E9B-1999-4FDA-839D-07637B92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F8ECD-4AD8-4C46-8241-B6E79688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49A37-44CB-4F05-AEF8-A007C01E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233A4-AE85-4723-A8C6-0E9BE30B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CFF57-A5AB-4420-B0AB-99525878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44A99-39B3-447A-B1F3-AD9E0EDE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C6C28-89CB-4A63-B1B8-9C5A9D89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167E6-8BE2-45AE-AF59-66B45562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F836A-F5A1-4CB9-9C94-E8551E48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C722-4ACD-4C46-9624-E459C1CD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C1AA7-6D90-47DB-91DE-4BD32F84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45F4D-607F-4236-A96D-1B9E52FA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ACCE7-5191-4C1A-A167-79D82568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F7334-AFA3-40B7-B1CF-760D165A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F1284-0AC8-4137-BCD4-6DA89B6C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04F1-31F2-4AE5-8E19-A9B05017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C7C9-03D8-4FF9-97F8-C968F1C724E5}" type="slidenum"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D143-1120-4A37-A0D6-6CD265276F06}" type="slidenum"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12F9-828C-4BAE-A952-C5E79EF7AAB3}" type="slidenum"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048F-7128-4AEF-9002-E8CD6C086D8C}" type="slidenum"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5533-FFCD-4510-9B08-5B7985152481}" type="slidenum"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2E88-43E3-4AD8-AAEA-97AA248D4412}" type="slidenum"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6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39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33A1-A5F1-4FB7-8916-D9E221FBDC86}" type="slidenum">
              <a:rPr b="0" lang="en-US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Comma Usag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c3340"/>
                </a:solidFill>
                <a:latin typeface="Times New Roman"/>
                <a:ea typeface="Times New Roman"/>
              </a:rPr>
              <a:t>Rules, Examples, and Practi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Tips: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use a comma befo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, so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ining independent clauses.  The comma may be omitted befo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, but, or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the independent clauses are very short and the meaning is clear without the comm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LEAR:  I will work with Emma and Josh will help Madis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:  I will work with Emma, and Josh will help Madis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Tips: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confuse a compound sentence with a simple sentence that contains a compound verb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hley and I looked everywhere for the sheet music, but we couldn’t find i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hley and I looked everywhere for the sheet music but couldn’t find i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Tips: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remember that compound subjects and compound verbs are not separated by commas unless they are made up of three or more item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begin a project and when you finish it are closely relat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Three Son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ove Lu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ck Van Dyke Sho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ll considered television classic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Practic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acles has been portrayed in several movies and his name has some to stand for someone of immense strengt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mighty warrior’s father was Zeus and his mother was a mortal named Alcme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ny Greek mythological figures were characterized as the children of gods and mortals and were known as “demigods.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i:  Use commas to set off nonessential subordinate clauses and nonessential participial phrases</a:t>
            </a:r>
            <a:endParaRPr b="0" lang="en-US" sz="28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onessential clause or participial phrase contains information that is not necessary to the senten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la Harris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was offered scholarships to three different colle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ll go to Vassar in the fal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ghtened by the thun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oth of the kittens jumped into my lap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i continued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ssential subordinate clause or participial phrase is not set off by commas because it contains information that is necessary to the meaning of the senten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la Harris is the only seni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was offered scholarships to three different colleg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studen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ing to go on the trip to South Americ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sign up by Frid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i continued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subordinate clauses and participial phrases may be either nonessential or essential.  The presence or absence of a comma tells the reader how the phrase or clause relates to the main idea of the senten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quirre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its bushy tail twitching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s nibbling on an acorn.  (Only one squirrel is in sight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quirrel with its bushy tail twitching was nibbling on an acorn.  (More than one squirrel was visible, but only one was twitching its tail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Practic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. Lowe who is a former pro football player is helping to coach the junior varsity team this yea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ia caught a steelhead which is a kind of trout as well as some rainbow trou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urists who are not fond of cold weather should think twice about vacationing in Alaska where temperatures can drop to below zer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j:  Use a comma after certain introductory elements</a:t>
            </a:r>
            <a:endParaRPr b="0" lang="en-US" sz="39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375120" indent="-324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comma aft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 any mild exclamation, such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beginning of a sentenc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920" indent="-32400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you are welcome to join u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75120" indent="-324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comma after an introductory participle or participial phras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920" indent="-32400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reading my report, I saw that I had writt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ril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stead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erril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fore the wor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f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75120" indent="-324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920" indent="-32400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75120" indent="-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920" indent="-32400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920" indent="-32400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75120" indent="-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75120" indent="-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75120" indent="-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j continued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comma after two or more introductory prepositional phrases or after one long introductory prepositional phras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park near my house, a music festival will take place this weeken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day when the last autumn leaf finally fell, I packed my bag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comma after an introductory adverb claus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the orchestra tuned their instruments, the stagehands checked the curtai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Items in a series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f:  Use commas to separate items in a seri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had been a correspondent for the wire service in London, Paris, Rome, and Madrid.  (word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tudied for the test on the way to school, during homeroom, and in study hall.  (phrase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porter wanted to know who I was, where I went to school, and I felt about getting my driver’s license.  (clause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550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use a comma before the first item or the final item in a series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Practic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king as fast a possible we reached the store just before it clos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scene at the end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ablanc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ck says goodbye to Ils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let’s take dancing classes togeth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I really do not enjoy working in the gard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mistaken for Halle Berry my aunt is often asked for her autograph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k:  Use commas to set off an expression that interrupts a sentence</a:t>
            </a:r>
            <a:endParaRPr b="0" lang="en-US" sz="39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 commas to set off nonessential appositives and appositive phras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pa, a game similar to volleyball, is a popular sport in the Philippin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ames Baldwin wrote the novel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Go Tell It on the Mountai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ords of direct address are set off by comma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xter, please help your brother set the tabl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seem upset, my frien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k continued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enthetical expressions are set off by comm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fter all, by the way, for example, in fact, in the first place, on the other hand, natural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train heading to Edinburgh will, I am sure, be on tim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y grandfather, by the way, created these colorful sand painting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 could see by the way Malinda worked that she wanted to do her best.  (not parenthetica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Practic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annah to tell the truth is not the world’s most diligent stude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hido the code of honor of the Japanese samurai warriors was the subject of the professor’s lectur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 pal I wouldn’t touch that electric wire if I were yo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l:  Use commas in certain conventional situations</a:t>
            </a:r>
            <a:endParaRPr b="0" lang="en-US" sz="39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tes/addres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waii achieved statehood on August 21, 1959, and became the fiftieth stat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rite to me at 423 Twentieth Street, Salt Lake City, UT 84101-0423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 began rehearsals on June 20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fter many years of foreign rule, the Philippines became an independent nation on 4 July 1946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d a severe storm hit Luzon in October 1999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l continued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lutations/closings of personal lett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ar Angela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ve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itles that follow a person’s na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ter Grundel, J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rraine Henson, Ph.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zel Sellers, M.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m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use unnecessary comm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, and I put a videocassette, and a fashion catalog, in the time capsul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brother, and I, enjoy hiking, and last summer, we spent a week, in Arizona, exploring the Grand Canyon, with our cousin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Practic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parents were married on June 3 1975 in Portland Oreg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ssociation has its headquarters at 6749 5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reet Kansas City MO 64153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al of BRHS is Jose Reyes J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guest speaker will be Marrisa Valdez Ph.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way, did you know that, the Robertsons have moved, to Palo Alto, C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Tips: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ins the last two items in a series, you may omit the comma before the conjunction if the comma is not needed to make the meaning clear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:  Soccer, basketball and lacrosse are my favorite sport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LEAR:  Joetta, Lucia and Ben are rehearsing a scene from the musica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Tips: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ll items in a series are join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o not use commas to separate th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rick and Han and Jina will represent the senior clas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Practic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 opened the world almanac checked the index 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d the capital of Rwand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ted people can give their applications to Jill Jo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y Mason or m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 asked the newcomer when he moved to tow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he works why he chose Alex City and what 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s to do on weeken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g:  Use a comma to separate tow or more adjectives preceding a noun.</a:t>
            </a:r>
            <a:endParaRPr b="0" lang="en-US" sz="39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herine Dunham is a creative, talented dancer and choreograph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see that boring, silly, worthless movi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use a comma before the final adjective in a series if the adjective is a thought of a part of the nou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Tips: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tests will help you determine whether an adjective and a noun form a uni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1:  Insert the wor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ween the adjective and the noun. 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ts sensibly, use a comm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 It was a crisp, clear fall day.  </a:t>
            </a:r>
            <a:r>
              <a:rPr b="0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And</a:t>
            </a:r>
            <a:r>
              <a:rPr b="0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 would fit logically between </a:t>
            </a:r>
            <a:r>
              <a:rPr b="0" i="1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crisp</a:t>
            </a:r>
            <a:r>
              <a:rPr b="0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clear </a:t>
            </a:r>
            <a:r>
              <a:rPr b="0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but not between </a:t>
            </a:r>
            <a:r>
              <a:rPr b="0" i="1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clear</a:t>
            </a:r>
            <a:r>
              <a:rPr b="0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fall</a:t>
            </a:r>
            <a:r>
              <a:rPr b="0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2:  Change the order of the adjective.  If they can be reversed sensibly, use a comma.  </a:t>
            </a:r>
            <a:r>
              <a:rPr b="0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Clear, crisp day</a:t>
            </a:r>
            <a:r>
              <a:rPr b="0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 makes sense, but </a:t>
            </a:r>
            <a:r>
              <a:rPr b="0" i="1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fall, crisp day</a:t>
            </a:r>
            <a:r>
              <a:rPr b="0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fall, clear day</a:t>
            </a:r>
            <a:r>
              <a:rPr b="0" lang="en-US" sz="24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 do not.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Practice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imble wily stealthy ferret eyed the rabbit cautiousl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viewer described the movie as action packed thrilling and breathtakingly realisti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m and Pedro sat enthralled during the long exciting basketball gam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e70"/>
                </a:solidFill>
                <a:latin typeface="Times New Roman"/>
                <a:ea typeface="Times New Roman"/>
              </a:rPr>
              <a:t>13h:  Use a comma before a coordinating conjunction when it joins independent clauses.</a:t>
            </a:r>
            <a:endParaRPr b="0" lang="en-US" sz="28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ing conjunction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, and, nor, but, or, yet, s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NBOYS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ky looks clear, yet rain has been forecas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aw a performance of August Wilson’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now I am eager to read his other play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13:56:46Z</dcterms:created>
  <dc:creator>pcoles</dc:creator>
  <dc:description/>
  <dc:language>en-US</dc:language>
  <cp:lastModifiedBy>pcoles</cp:lastModifiedBy>
  <dcterms:modified xsi:type="dcterms:W3CDTF">2010-08-24T18:01:22Z</dcterms:modified>
  <cp:revision>25</cp:revision>
  <dc:subject/>
  <dc:title>Comma Usage</dc:title>
</cp:coreProperties>
</file>